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bark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C3D-8E5F-4ED8-8F7C-D6A67067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AE9-8BC3-431E-B796-019071FE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E3B-3CFF-43F3-BDD6-65201B95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9A7-0E25-47A7-83BB-2BC2D410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D1CA-18D3-4E82-B788-1B2144CC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F396-A613-4B2D-809C-73927BB0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8FDC-2BC6-4844-9C19-7BF3140D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A051-922C-4CEC-A3EE-81FE422C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CFAF-3667-4AB9-95BC-EB751593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C04B-F488-4EC0-8109-729128E5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6EFC-E55D-4A72-B876-97AB8D5F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107-F051-499D-A9DC-3F01B9FA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7E8F-EB38-4FF5-9E4E-945E2DBE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294A-551B-4AB9-9DB5-BED2C809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0B46-DA51-451F-8D38-FDA365A5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74D9-4E71-4FC5-9147-4F3802EC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FE5F-F079-422B-9259-6FD101D8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E88-310C-4313-9E4E-C3B3E215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468-7AB0-4FFE-BD8E-6446BE4E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3EE-CF9C-4E03-8541-658E2B7F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956-AB6E-431E-B150-68FBB626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46A-85AB-4E0D-BE79-19AC394B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046-D7E2-40AF-A9C2-4E5EAFD4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F02-A3AA-41AC-BC67-6175FE30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0D54-A6B3-4894-B7C2-EE18BDF88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9EC2-2C13-411E-8014-C95B0BBA9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azon.com/gp/reader/0399226842/ref=sib_dp_pt/002-6334525-702885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ar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etermine if a book is nonfiction or fi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3 Library Les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00200" y="2286000"/>
            <a:ext cx="5305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nfiction VS Fiction</a:t>
            </a:r>
            <a:endParaRPr b="0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How To Tell If A Book Is Nonfictio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stic pi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in the book do not t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How To Tell If A Book Is Fictio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are not real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inions are often used in the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in the book t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Lesson Pl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book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Very Quiet Crick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Eric Carle (Fic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nster Bu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Lucille Recht Penner (Nonfic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a Venn Diagram on the differences in the two book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The Very Quiet Cricket</a:t>
            </a:r>
            <a:br>
              <a:rPr sz="4400"/>
            </a:b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by Eric Car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tures do not look real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inions are st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ickets have feel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The Very Quiet Cricket Board Book">
            <a:hlinkClick r:id="rId1"/>
          </p:cNvPr>
          <p:cNvPicPr/>
          <p:nvPr/>
        </p:nvPicPr>
        <p:blipFill>
          <a:blip r:embed="rId2"/>
          <a:srcRect l="7543" t="37197" r="0" b="13213"/>
          <a:stretch/>
        </p:blipFill>
        <p:spPr>
          <a:xfrm>
            <a:off x="6019920" y="4267080"/>
            <a:ext cx="28191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Monster Bugs</a:t>
            </a:r>
            <a:br>
              <a:rPr sz="4400"/>
            </a:b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by Lucille Recht Penn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tures look real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s about many different bugs are mentio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What Do Both Books Have In Commo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books are about b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 Black"/>
              </a:rPr>
              <a:t>Follow Up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gzil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Dav Pilkey (Fi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Melanie Miller (Nonfi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the students do a Venn Diagram on the boo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21700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6:50:27Z</dcterms:created>
  <dc:creator>scs</dc:creator>
  <dc:description/>
  <dc:language>en-US</dc:language>
  <cp:lastModifiedBy>scs</cp:lastModifiedBy>
  <dcterms:modified xsi:type="dcterms:W3CDTF">2007-05-29T18:52:24Z</dcterms:modified>
  <cp:revision>6</cp:revision>
  <dc:subject/>
  <dc:title>Slide 1</dc:title>
</cp:coreProperties>
</file>